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FCB-1F3D-4E8F-A4F4-00118BC1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A9B-1BD5-4CB9-9ECF-2F5FDC8C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E3C-A219-4022-BA2A-2E40C922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C0B-E7C4-41EE-8324-FC55DAD1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E9FF-0694-4326-AD3F-0BCC68A3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F8BE-217B-48E2-B754-5F7412DD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2692-D8A0-46CF-A083-E8B86DFB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1EA-1E81-4977-9C1B-E1EDAFD4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3E13-DF17-47B2-ABD8-49FB3C8A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2182-A598-4343-B205-D3828BA2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BB6B-E65F-4F92-B692-EB4FBE58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1F3-3929-42A9-81F2-448476B4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7201-4044-4C8D-B14B-14E64702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1E5C-7815-435E-86DE-6F3800C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4857-9007-489D-B2D4-548C51F6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AC20-7177-4BB4-8172-EDC3629F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9055-2E2B-47CB-89AC-8D865D89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928-66D9-4EB3-927F-6CAE9EA7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C96-B41E-4FCC-A5E1-5A1E3A16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DA8-8B3E-473F-B12A-018FF411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6BC-77CA-4330-AF90-51999659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CEF-2BC9-40B5-9511-26DAD9EC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B64-2FC7-407E-B88C-E17AF6D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599-8B93-46C5-9793-8FBDD0E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BF4C-27C6-422B-B44A-172B615206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8D96-D95D-4C87-88F1-B647337C55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609480" y="19810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Las Comidas del D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í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Makenna K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-243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El Desayuno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05400" y="3687840"/>
            <a:ext cx="2229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Bradley Hand ITC"/>
              </a:rPr>
              <a:t>Los Panquequ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733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El Toc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6172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Los Huevos Revuel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7084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El Jugo de Nara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61563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La Sand</a:t>
            </a:r>
            <a:r>
              <a:rPr b="0" lang="en-US" sz="2000" spc="-1" strike="noStrike">
                <a:solidFill>
                  <a:srgbClr val="ffffff"/>
                </a:solidFill>
                <a:latin typeface="Bradley Hand ITC"/>
                <a:ea typeface="Arial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72200" y="198432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8080" y="12952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Para el desayuno me gusta com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1981440" cy="1327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324480" y="4654440"/>
            <a:ext cx="2114640" cy="1517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809880" y="2514600"/>
            <a:ext cx="14241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El Almuerzo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Para el almuerzo me gusta com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672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Un Sándwich de Jam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2127240"/>
            <a:ext cx="2057400" cy="1544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38080" y="6172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La Manz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752840" cy="1900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553080" y="3657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El Yog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60958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029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Una Lim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Home made Lemonade Recipe Home made Lemonade Recipe"/>
          <p:cNvPicPr/>
          <p:nvPr/>
        </p:nvPicPr>
        <p:blipFill>
          <a:blip r:embed="rId3"/>
          <a:stretch/>
        </p:blipFill>
        <p:spPr>
          <a:xfrm>
            <a:off x="3755880" y="3186000"/>
            <a:ext cx="1501920" cy="1766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943600" y="6095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Las Galletas Oreo de 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9440" y="4648320"/>
            <a:ext cx="2000160" cy="133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6400800" y="1962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La Cena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radley Hand ITC"/>
              </a:rPr>
              <a:t>Para la cena me gusta com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5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El Espagu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2108160"/>
            <a:ext cx="2209680" cy="147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14400" y="60800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El Pan de 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1733760" cy="1733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400800" y="61563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Los Guis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3565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Las Zanah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172200" y="1828800"/>
            <a:ext cx="182880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781440" y="2629080"/>
            <a:ext cx="1581120" cy="1600200"/>
            <a:chOff x="3781440" y="2629080"/>
            <a:chExt cx="1581120" cy="1600200"/>
          </a:xfrm>
        </p:grpSpPr>
        <p:sp>
          <p:nvSpPr>
            <p:cNvPr id="186" name=""/>
            <p:cNvSpPr txBox="1"/>
            <p:nvPr/>
          </p:nvSpPr>
          <p:spPr>
            <a:xfrm>
              <a:off x="3781440" y="2629080"/>
              <a:ext cx="15811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324480" y="4343400"/>
            <a:ext cx="1730520" cy="1752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0988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La Le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3711600" y="2789280"/>
            <a:ext cx="1393920" cy="18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26680" y="122400"/>
            <a:ext cx="3282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El Postr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Para el postre me gusta com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6172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Helado de Vaini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860400" cy="198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733920" y="493704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Té de M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708360" y="2438280"/>
            <a:ext cx="1625760" cy="2438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77120" y="1828800"/>
            <a:ext cx="137304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324480" y="3718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Rollo de Can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6248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La To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400800" y="4419720"/>
            <a:ext cx="1828800" cy="1763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0880" y="3505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Galletas con Chispas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62120" y="1925640"/>
            <a:ext cx="20574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8:20Z</dcterms:created>
  <dc:creator>klaymak</dc:creator>
  <dc:description/>
  <dc:language>en-US</dc:language>
  <cp:lastModifiedBy>klaymak</cp:lastModifiedBy>
  <dcterms:modified xsi:type="dcterms:W3CDTF">2011-04-15T17:15:24Z</dcterms:modified>
  <cp:revision>15</cp:revision>
  <dc:subject/>
  <dc:title>Las Comidas del Día</dc:title>
</cp:coreProperties>
</file>